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C7E7-9605-44DA-950C-2E101D367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1F08-2C24-43AC-8B9B-A68F18F7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2511-A8AD-4FF7-BC4C-71999FEF1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5E4C-34DD-4A79-9D18-2A440F4E2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CF3F-E22D-4629-9872-BED9640E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FB3E-C8F2-48A7-8AB1-CC0039D7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1FA8-BA13-47DF-A057-128355FA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AE73-CDAA-412C-9FC0-5C00442F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C58A-022D-4E89-A4C9-5511EC86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D5F2-A896-4BBB-BFA8-4B7C032C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0D57-ACD7-49AB-AF53-08BBC402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B067-063A-447D-B209-83E9DDEC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2363-1749-4DC4-89B5-ED88E19DFB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beta-scan33 S1=[0.3,2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3095640"/>
            <a:ext cx="4724280" cy="3762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191120" y="1752480"/>
            <a:ext cx="49528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5334120" cy="40129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DPPC xr scan112-121 S1=[0.2,3], sli=[23,11],dppcxr112fit.p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105520" y="3913200"/>
            <a:ext cx="382896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DPPC beta-scan150 S1=[0.3,2], sli=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651492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00200" y="1374840"/>
            <a:ext cx="6186600" cy="54831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ta-scan f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4305600" cy="34275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PPC GIXOS calcul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Gixos-scan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648320" y="3278160"/>
            <a:ext cx="449568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4952880" cy="3943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581280" y="2666880"/>
            <a:ext cx="495324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PC beta- scan172+174, S1=[0.3,2], sli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62940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6553080" cy="5217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800600" y="641520"/>
            <a:ext cx="4343400" cy="34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095560" y="1457280"/>
            <a:ext cx="49528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Gidalevitz_2009jun,DPPC4 XRscan4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ppcxrfit.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" y="2666880"/>
            <a:ext cx="5334120" cy="4000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343400" y="1828800"/>
            <a:ext cx="44006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beta-scan33 S1=[0.3,1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1411200"/>
            <a:ext cx="6782040" cy="54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idalevitz_2009jun,DPPC3 GIXOS scan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095560" y="1457280"/>
            <a:ext cx="49528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8600" y="3562200"/>
            <a:ext cx="4248000" cy="3295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4362480" cy="3133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495680" y="228600"/>
            <a:ext cx="43084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beta-scan40 S1=[0.04,1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95280" y="1216080"/>
            <a:ext cx="708660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42920" y="700200"/>
            <a:ext cx="7059600" cy="54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1528920"/>
            <a:ext cx="6591240" cy="5329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er beta-scan84 S1=[0.3,2],Qz=0.4,Alpha=2.26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1406520"/>
            <a:ext cx="6743880" cy="5451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720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er beta-scan88 S1=[0.3,2],Qz=0.2,Alpha=1.13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k-scan59-65 S1=[0.06,2],Qz=0.33,sli=[23,3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71600" y="1519200"/>
            <a:ext cx="670572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k-scan67 S1=[0.06,2],Qz=0.44,sli=[23,3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371600" y="1549440"/>
            <a:ext cx="666756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ling</cp:lastModifiedBy>
  <dcterms:modified xsi:type="dcterms:W3CDTF">2009-07-18T01:52:3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